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939-6CA0-4DA1-935F-8A20B5E2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DF2-D210-4A66-AE4E-C8C1D1C0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9C4-02FE-445E-B917-1595C210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51F-C164-4DFD-AF0B-FF7550AF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07E-E185-459D-A79D-73BE313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0D2-AA27-482C-9273-7BF73D7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126-2A9E-4070-AC6D-623597E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1D1-36BF-4FDB-83A9-1C0FBA65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2D5-B4ED-42D6-B1C3-56B3F1E0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C5A-4B75-4D6A-A622-470BA7CC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05D-CCA9-4C37-B43D-9EF5C9E2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448-C337-4FF1-B9EF-AC61BA6D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D68-9924-4DDE-A066-683EFA81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2, .3, .3, .5, .5, .5, .5, .5, .6, .6, .6, .7, 1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609480"/>
            <a:ext cx="685800" cy="99072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8600"/>
            <a:ext cx="3353040" cy="1523880"/>
          </a:xfrm>
          <a:prstGeom prst="rect">
            <a:avLst/>
          </a:prstGeom>
          <a:solidFill>
            <a:srgbClr val="bbe0e3">
              <a:alpha val="31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1219320" cy="838080"/>
          </a:xfrm>
          <a:prstGeom prst="rect">
            <a:avLst/>
          </a:prstGeom>
          <a:solidFill>
            <a:srgbClr val="bbe0e3">
              <a:alpha val="31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9000" y="1676520"/>
            <a:ext cx="1447920" cy="60948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5240" y="3505320"/>
            <a:ext cx="2904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.6 - .2 = 1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85800"/>
            <a:ext cx="685800" cy="762120"/>
          </a:xfrm>
          <a:prstGeom prst="rect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762120"/>
            <a:ext cx="685800" cy="761760"/>
          </a:xfrm>
          <a:prstGeom prst="rect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714680"/>
            <a:ext cx="4038480" cy="266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 most reliable data found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 most frequent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alculated by subtracting the lowest number from the highest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7:12:28Z</dcterms:created>
  <dc:creator>ctcriss</dc:creator>
  <dc:description/>
  <dc:language>en-US</dc:language>
  <cp:lastModifiedBy>ctcriss</cp:lastModifiedBy>
  <dcterms:modified xsi:type="dcterms:W3CDTF">2011-09-21T17:12:39Z</dcterms:modified>
  <cp:revision>1</cp:revision>
  <dc:subject/>
  <dc:title>Slide 1</dc:title>
</cp:coreProperties>
</file>